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F94379-9D8C-4778-A143-C8BD13F9CD9B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C5A76-BFF5-446D-90A2-F31914DC00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6865DC-6D1A-40A5-A2C9-FB45DA0114A3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apport OASIS 201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F158A5-B4F9-4A76-AD9C-26F1AB7FB142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RCPFAS-Togo : Réseau des Champions en Plaidoyer pour le Financement Adéquat de la Santé au Togo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35BBB5-551D-4B17-B339-FCA747CEE819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7A663-E446-49D9-9566-A6AC96876A97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Espace réservé du numéro de diapositive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AB5CD-5756-4F84-816E-AA2B60409A5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3758B-5B29-4A11-A574-D6BB8372F6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8E57-062A-43F1-9362-6317F454A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2EDD8-B6B8-4DA2-9FDB-7C339114A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B96-6B48-47BE-BF32-4404DC61B9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E5990-DED0-4091-941D-4BD5DEF21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5FB5C-B6A8-4462-8D0C-B9B933411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7C8A4-B9BB-4519-A89B-2FC7AF69AA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8823B-F5BB-4CFA-865A-675A38EF4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342F4-1FB6-4A6A-A2ED-B66EDA9AB4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FEF9-D11E-48DE-8390-6495D7DED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8C47-1786-4D3A-8B53-9ED0546B7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14E8-6B82-450D-86EC-5C08A353B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AF6F6-0151-4CBC-A6E5-194DAFC312E6}" type="datetime">
              <a:rPr b="0" lang="fr-FR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274EA1-8014-4421-AC8C-A1183A6A082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7705800" cy="129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Tw Cen MT"/>
                <a:ea typeface="Ebrima"/>
              </a:rPr>
              <a:t>REPUBLIQUE TOGOLAISE</a:t>
            </a:r>
            <a:br>
              <a:rPr sz="2800"/>
            </a:br>
            <a:r>
              <a:rPr b="1" lang="fr-FR" sz="1300" spc="-1" strike="noStrike">
                <a:solidFill>
                  <a:srgbClr val="005c00"/>
                </a:solidFill>
                <a:latin typeface="Arial Narrow"/>
                <a:ea typeface="Arial"/>
              </a:rPr>
              <a:t>MINISTERE DE LA SANTE ET DE LA PROTECTION SOCIA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485DF-6AEC-4ABB-BAE6-F27038BB38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Connecteur droit 4"/>
          <p:cNvSpPr/>
          <p:nvPr/>
        </p:nvSpPr>
        <p:spPr>
          <a:xfrm>
            <a:off x="1116000" y="1628640"/>
            <a:ext cx="6840720" cy="0"/>
          </a:xfrm>
          <a:prstGeom prst="line">
            <a:avLst/>
          </a:prstGeom>
          <a:ln w="93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3419640" y="5300640"/>
            <a:ext cx="4824360" cy="720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d0d0d"/>
                </a:solidFill>
                <a:latin typeface="Arial Narrow"/>
              </a:rPr>
              <a:t>Lomé, 09 février 2017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5"/>
          <p:cNvSpPr/>
          <p:nvPr/>
        </p:nvSpPr>
        <p:spPr>
          <a:xfrm>
            <a:off x="1692360" y="4160880"/>
            <a:ext cx="6192720" cy="103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100" spc="-1" strike="noStrike">
                <a:solidFill>
                  <a:srgbClr val="000000"/>
                </a:solidFill>
                <a:latin typeface="Calibri"/>
              </a:rPr>
              <a:t>Cadre institutionnel et modalités de mobilisation des financements domestiques pour la santé</a:t>
            </a:r>
            <a:r>
              <a:rPr b="1" lang="fr-CH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8"/>
          <p:cNvSpPr/>
          <p:nvPr/>
        </p:nvSpPr>
        <p:spPr>
          <a:xfrm>
            <a:off x="1835280" y="3029040"/>
            <a:ext cx="568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H" sz="2000" spc="-1" strike="noStrike">
                <a:solidFill>
                  <a:srgbClr val="0070c0"/>
                </a:solidFill>
                <a:latin typeface="Arial Narrow"/>
                <a:ea typeface="MS Mincho"/>
              </a:rPr>
              <a:t>Dialogue national sur le financement de la santé 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9"/>
          <p:cNvSpPr/>
          <p:nvPr/>
        </p:nvSpPr>
        <p:spPr>
          <a:xfrm>
            <a:off x="3211920" y="3419640"/>
            <a:ext cx="271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1800" spc="-1" strike="noStrike">
                <a:solidFill>
                  <a:srgbClr val="000000"/>
                </a:solidFill>
                <a:latin typeface="Arial"/>
                <a:ea typeface="MS Mincho"/>
              </a:rPr>
              <a:t>_ _ _ _ _ _ _ _ _ _ _ __ _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il_fi" descr="http://www.republicoftogo.com/var/ezflow_site/storage/images/toutes-les-rubriques/medias/a-quelles-armoiries-se-vouer/27857-1-fre-FR/A-quelles-armoiries-se-vouer_article_top.jpg"/>
          <p:cNvPicPr/>
          <p:nvPr/>
        </p:nvPicPr>
        <p:blipFill>
          <a:blip r:embed="rId1"/>
          <a:srcRect l="1756" t="0" r="56632" b="15791"/>
          <a:stretch/>
        </p:blipFill>
        <p:spPr>
          <a:xfrm>
            <a:off x="4076640" y="1773360"/>
            <a:ext cx="990720" cy="1143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7991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178920" y="1701360"/>
            <a:ext cx="842508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Togo, il y a une Assurance maladie à vocation universelle: INAM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: 3 à 4 milliards par an de l’Etat en tant que part employeur (3,5% des salaires) pour 300.000 personnes (salariés et ayants droit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tisation des fonctionnaires de l’Etat : 3,5% des salair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La couverture d’une personne pour 1 an demande 22.000F  pour le panier actuel INAM (consultation, médicament, chirurgie, imagerie, lunetterie, prothès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u moins 80% de la population active est  dans l’informel avec des revenus non maitris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7734DC-3AA5-4D77-A246-7170FA212264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07280" cy="936720"/>
          </a:xfrm>
          <a:prstGeom prst="rect">
            <a:avLst/>
          </a:pr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Mobilisation du  financement domestique</a:t>
            </a:r>
            <a:br>
              <a:rPr sz="3400"/>
            </a:br>
            <a:r>
              <a:rPr b="0" lang="fr-CH" sz="3400" spc="-1" strike="noStrike">
                <a:solidFill>
                  <a:srgbClr val="000000"/>
                </a:solidFill>
                <a:latin typeface="Calibri"/>
              </a:rPr>
              <a:t>    pour la CMU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178920" y="1267920"/>
            <a:ext cx="849636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e la capacité contributive de la population:  étude en cours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sur les mécanismes de collecte des contributions du secteur informel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Incertitude d’aller à la couverture universelle avec le panier actuel INAM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vantage d’une caisse d’assurance maladie de recevoir aussi bien des subventions de l’Etat que des financements dédié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Faire des études actuarielles pour proposer des options financières réalistes à l’Etat (panier, coût, financement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Espace réservé du numéro de diapositive 3"/>
          <p:cNvSpPr/>
          <p:nvPr/>
        </p:nvSpPr>
        <p:spPr>
          <a:xfrm>
            <a:off x="697860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A470B-3B46-42A4-ADFF-1DC9248FD119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Rectangle 4"/>
          <p:cNvSpPr/>
          <p:nvPr/>
        </p:nvSpPr>
        <p:spPr>
          <a:xfrm>
            <a:off x="324000" y="404640"/>
            <a:ext cx="360360" cy="360360"/>
          </a:xfrm>
          <a:prstGeom prst="rect">
            <a:avLst/>
          </a:prstGeom>
          <a:solidFill>
            <a:srgbClr val="17375e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1/2) 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108000" y="836640"/>
            <a:ext cx="8856720" cy="59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800000"/>
                </a:solidFill>
                <a:latin typeface="Calibri"/>
              </a:rPr>
              <a:t>CONSTA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INAM, caisse qui reçoit les cotisations employeurs et employés du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imites : statut et loi ne permettant pas d’enrôler d’autres bénéficiaires hors secteur public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mutuelles, couvrant 16.000 bénéficiaires pour 0,04% de dépense totale en santé en 2008 et d’assurances maladie privées  pour 2,3% des dépenses de santé (CNS, 2008).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Existence d’autres subventions de l’Etat: césarienne, indigents, dialyse, ARV, évacuation sanitair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 algn="just">
              <a:lnSpc>
                <a:spcPct val="90000"/>
              </a:lnSpc>
              <a:spcBef>
                <a:spcPts val="4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000" spc="-1" strike="noStrike">
                <a:solidFill>
                  <a:srgbClr val="008000"/>
                </a:solidFill>
                <a:latin typeface="Calibri"/>
              </a:rPr>
              <a:t>ANALY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e statut de l’INAM lui permet une gestion autono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Fragmentation et diversité des fonds existants en matière de CSU, d’où une faible viabilité financière du systèm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L’extension de la CSU  à toute la population pose la question de l’architecture appropriée  pour sa gestio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590760" indent="-282960" algn="just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Opportunité de diminuer le paiement direct des ménages par la mutualisation des cotisations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93B87-BE73-4E9A-8D92-E0C480F91D4F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424720" cy="504720"/>
          </a:xfrm>
          <a:prstGeom prst="rect">
            <a:avLst/>
          </a:prstGeom>
          <a:noFill/>
          <a:ln w="9360">
            <a:solidFill>
              <a:srgbClr val="4a452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Mise en commun des fonds domestiques </a:t>
            </a:r>
            <a:r>
              <a:rPr b="0" lang="fr-CH" sz="2000" spc="-1" strike="noStrike">
                <a:solidFill>
                  <a:srgbClr val="000000"/>
                </a:solidFill>
                <a:latin typeface="Calibri"/>
              </a:rPr>
              <a:t>(2/2)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08000" y="1341000"/>
            <a:ext cx="885672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50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ff"/>
                </a:solidFill>
                <a:latin typeface="Calibri"/>
              </a:rPr>
              <a:t>RECOMMANDATION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Faire une évaluation pour bien apprécier l’efficacité et l’efficience de la gestion de INAM et les autres fond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</a:rPr>
              <a:t>Réviser  la loi sur l’assurance maladie obligatoire  et le décret portant organisation de l’INAM pour passer à l’échel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Proposer une structure unique qui englobe les structures existantes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596880" indent="-28584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Calibri"/>
              </a:rPr>
              <a:t>Mener des actions vers les collectivités locales pour leur participation active dans la mobilisation des fonds.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Espace réservé du numéro de diapositive 3"/>
          <p:cNvSpPr/>
          <p:nvPr/>
        </p:nvSpPr>
        <p:spPr>
          <a:xfrm>
            <a:off x="6996240" y="6492960"/>
            <a:ext cx="213336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9AE39-D12B-4788-93B4-2FA8C428D6C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250920" y="189000"/>
            <a:ext cx="360360" cy="360360"/>
          </a:xfrm>
          <a:prstGeom prst="rect">
            <a:avLst/>
          </a:prstGeom>
          <a:solidFill>
            <a:srgbClr val="4a452a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115920"/>
            <a:ext cx="8229600" cy="635040"/>
          </a:xfrm>
          <a:prstGeom prst="rect">
            <a:avLst/>
          </a:prstGeom>
          <a:noFill/>
          <a:ln w="9360">
            <a:solidFill>
              <a:srgbClr val="e46c0a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3000" spc="-1" strike="noStrike">
                <a:solidFill>
                  <a:srgbClr val="000000"/>
                </a:solidFill>
                <a:latin typeface="Calibri"/>
              </a:rPr>
              <a:t>Achat de services de santé par l’assurance maladie 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287280" y="907920"/>
            <a:ext cx="8569440" cy="583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800000"/>
                </a:solidFill>
                <a:latin typeface="Calibri"/>
              </a:rPr>
              <a:t>CONSTATS </a:t>
            </a: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: INA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anier de soins assez large (consultation, médicament, labo, chirurgie, imagerie, lunetterie, prothèse, etc.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Modalités de payement: Tiers payant à l’acte avec base de taux de remboursemen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8000"/>
                </a:solidFill>
                <a:latin typeface="Calibri"/>
              </a:rPr>
              <a:t>ANALYS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’assuré bénéficie d’un accès à de nombreux services curatifs sans barrière financièr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système INAM ne suffit pas à offrir des soins de qualité: disponibilité de soins non uniforme sur toute l’étendue du territo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Le recours aux soins a augmenté avec INAM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451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ff"/>
                </a:solidFill>
                <a:latin typeface="Calibri"/>
              </a:rPr>
              <a:t>RECOMMANDA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</a:rPr>
              <a:t>Définir un panier de soins de base pour tous qui répond aux besoins essentiels de la population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Améliorer la qualité de l’offre de soins dans toute la pyramide sanitai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tionnaliser l’offre de soins à travers un système de référence et contre-référenc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Espace réservé du numéro de diapositive 3"/>
          <p:cNvSpPr/>
          <p:nvPr/>
        </p:nvSpPr>
        <p:spPr>
          <a:xfrm>
            <a:off x="697392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0E491-E91F-4A6D-83F0-073ED482A561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250920" y="260280"/>
            <a:ext cx="360360" cy="360360"/>
          </a:xfrm>
          <a:prstGeom prst="rect">
            <a:avLst/>
          </a:prstGeom>
          <a:solidFill>
            <a:srgbClr val="984807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857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MERCI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6A6B3-22F3-432D-9100-23C30F795932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457200" y="2082960"/>
            <a:ext cx="8229600" cy="2692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1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Proposer une plateforme nationale de mobilisation des ressources domestiques, sa composition, sa mission et la description des rôles et responsabilités de chaque acteur ou secteur membr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C8E49-C182-41C5-847A-F130DAB7494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95280" y="115560"/>
            <a:ext cx="8229600" cy="865080"/>
          </a:xfrm>
          <a:prstGeom prst="rect">
            <a:avLst/>
          </a:prstGeom>
          <a:solidFill>
            <a:srgbClr val="ffffff"/>
          </a:solidFill>
          <a:ln w="25560">
            <a:solidFill>
              <a:srgbClr val="4f81bd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Calibri"/>
              </a:rPr>
              <a:t>Constat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390600" y="1412640"/>
            <a:ext cx="8362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Existe-t-il déjà une plate-forme ou cadre institutionnel pour la mobilisation de financement domestique?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 priori non, mais il existe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santé VIH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Comité IHP+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Réseau des Champions en Plaidoyer pour le Financement Adéquat de la Santé au Togo (Association loi 1901) peu fonctionnel, mais a eu un résultat dans le financement de la PF (appui de AGIR PF pour élire un nouveau bureau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lates-formes très larges, non focalisées sur le financement de la santé ou pas totalement fonctionnelles</a:t>
            </a:r>
            <a:r>
              <a:rPr b="0" lang="en-GB" sz="27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gradFill rotWithShape="0">
            <a:gsLst>
              <a:gs pos="0">
                <a:srgbClr val="3a7ccb"/>
              </a:gs>
              <a:gs pos="100000">
                <a:srgbClr val="2c5d98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C593B-8601-496B-BB1B-395CAF92EFB6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188640"/>
            <a:ext cx="8229600" cy="718920"/>
          </a:xfrm>
          <a:prstGeom prst="rect">
            <a:avLst/>
          </a:prstGeom>
          <a:solidFill>
            <a:srgbClr val="ffffff"/>
          </a:solidFill>
          <a:ln w="25560">
            <a:solidFill>
              <a:srgbClr val="8064a2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Analyse des problèm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ugmenter le financement domestique pour la santé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appropriation à haut niveau de la problématique du financement domestique de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Besoin d’un cadre institutionnel de haut niveau pour la mobilisation et le suivi stratégique du financement domestique de la santé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Rectangle 4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604a7b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09558-5831-4ECD-B6F2-69C9BFBC3ED3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229600" cy="70632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Calibri"/>
              </a:rPr>
              <a:t>Recommandations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Mettre en place un comité de pilotage /cadre institutionn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Sa mission 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Accélérer les reformes pour la mobilisation adéquate des ressources publiques et privées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pour la </a:t>
            </a:r>
            <a:r>
              <a:rPr b="0" lang="fr-FR" sz="2800" spc="-1" strike="noStrike">
                <a:solidFill>
                  <a:srgbClr val="000000"/>
                </a:solidFill>
                <a:latin typeface="Calibri"/>
              </a:rPr>
              <a:t>santé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tangle 3"/>
          <p:cNvSpPr/>
          <p:nvPr/>
        </p:nvSpPr>
        <p:spPr>
          <a:xfrm>
            <a:off x="179280" y="333360"/>
            <a:ext cx="360360" cy="35892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D780A-ED9D-47FB-9B1F-2FAFE0C8623C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114300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Objectifs du cadre institutionnel/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S’approprier toutes les initiatives et décisions en matière de mobilisation de ressources pour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Proposer des priorités pour la mobilisation de ressources financières en santé (stratégies, financements)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ciliter les réformes pour la mise en œuvre des mécanismes de mobilisation de ressources additionnelles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Faire le suivi stratégique de la mise en œuvre du financement de la santé.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Assurer un dialogue continu avec le groupe de plaidoyer (RCPFAS-Togo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just">
              <a:lnSpc>
                <a:spcPct val="8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3"/>
          <p:cNvSpPr/>
          <p:nvPr/>
        </p:nvSpPr>
        <p:spPr>
          <a:xfrm>
            <a:off x="250920" y="47628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Espace réservé du numéro de diapositive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8B049-02D7-41E7-A908-1900165931D8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77960"/>
          </a:xfrm>
          <a:prstGeom prst="rect">
            <a:avLst/>
          </a:prstGeom>
          <a:solidFill>
            <a:srgbClr val="ffffff"/>
          </a:solidFill>
          <a:ln w="25560">
            <a:solidFill>
              <a:srgbClr val="9bbb59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Calibri"/>
              </a:rPr>
              <a:t>Composition du comité de pilotag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00360" y="1915920"/>
            <a:ext cx="4392360" cy="4033800"/>
          </a:xfrm>
          <a:prstGeom prst="rect">
            <a:avLst/>
          </a:prstGeom>
          <a:noFill/>
          <a:ln w="9360">
            <a:solidFill>
              <a:srgbClr val="008000"/>
            </a:solidFill>
            <a:miter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Ancrage institutionn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? Possible avec l’existence d’un  chargé des études sur le financement innovant…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Organe technique en support pour assurer le fonctionnement du comité de pilotage (compétences en santé, protection sociale, finance, société civile)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250920" y="404640"/>
            <a:ext cx="360360" cy="360360"/>
          </a:xfrm>
          <a:prstGeom prst="rect">
            <a:avLst/>
          </a:prstGeom>
          <a:solidFill>
            <a:srgbClr val="4f6228"/>
          </a:soli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Espace réservé du numéro de diapositive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29CE2E-9378-4469-B758-64F4F318D33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Content Placeholder 2"/>
          <p:cNvSpPr/>
          <p:nvPr/>
        </p:nvSpPr>
        <p:spPr>
          <a:xfrm>
            <a:off x="108000" y="1125360"/>
            <a:ext cx="4319640" cy="5732640"/>
          </a:xfrm>
          <a:prstGeom prst="rect">
            <a:avLst/>
          </a:prstGeom>
          <a:solidFill>
            <a:srgbClr val="ebf1d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Représentativité multisectoriell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ésidence de la Républ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rimature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Sant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planification du développ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s finance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a Décentralisa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 du Commerc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Ministère de l’économie numériqu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arlement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ecteur privé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Société Civile y compris les méd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alibri"/>
              </a:rPr>
              <a:t>PTF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18960" y="259920"/>
            <a:ext cx="8506080" cy="10810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Point 2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mobilisation des financements domestiques pour la sant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457200" y="1599840"/>
            <a:ext cx="8229600" cy="348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2 sources actuelles de financement :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axes pour l’Etat 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 privé y compris paiement direct des ménage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5880" indent="-3358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000000"/>
                </a:solidFill>
                <a:latin typeface="Calibri"/>
              </a:rPr>
              <a:t>Des modalités autour des réformes pour: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Plus d’argent dans le budget Etat 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Financements innovants </a:t>
            </a:r>
            <a:r>
              <a:rPr b="0" lang="fr-FR" sz="2400" spc="-1" strike="noStrike">
                <a:solidFill>
                  <a:srgbClr val="ff0000"/>
                </a:solidFill>
                <a:latin typeface="Calibri"/>
              </a:rPr>
              <a:t>E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alibri"/>
              </a:rPr>
              <a:t>Transformation d’une partie du paiement direct des ménages en cotisation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lèche vers le bas 4"/>
          <p:cNvSpPr/>
          <p:nvPr/>
        </p:nvSpPr>
        <p:spPr>
          <a:xfrm>
            <a:off x="4211640" y="4941720"/>
            <a:ext cx="720720" cy="79092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ZoneTexte 5"/>
          <p:cNvSpPr/>
          <p:nvPr/>
        </p:nvSpPr>
        <p:spPr>
          <a:xfrm>
            <a:off x="900000" y="5805360"/>
            <a:ext cx="734400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700" spc="-1" strike="noStrike">
                <a:solidFill>
                  <a:srgbClr val="c00000"/>
                </a:solidFill>
                <a:latin typeface="Calibri"/>
              </a:rPr>
              <a:t>Opportunité d’une caisse d’assurance maladie comme mécanisme de financement de la santé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Espace réservé du numéro de diapositive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5E879-F55D-40DB-9B1C-148564F0F02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 txBox="1"/>
          <p:nvPr/>
        </p:nvSpPr>
        <p:spPr>
          <a:xfrm>
            <a:off x="900000" y="2349360"/>
            <a:ext cx="7344000" cy="2159280"/>
          </a:xfrm>
          <a:prstGeom prst="rect">
            <a:avLst/>
          </a:prstGeom>
          <a:noFill/>
          <a:ln w="76320">
            <a:solidFill>
              <a:srgbClr val="800000"/>
            </a:solidFill>
            <a:miter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 u="sng">
                <a:solidFill>
                  <a:srgbClr val="000000"/>
                </a:solidFill>
                <a:uFillTx/>
                <a:latin typeface="Calibri"/>
              </a:rPr>
              <a:t>Point 2 revisité</a:t>
            </a:r>
            <a:r>
              <a:rPr b="1" lang="fr-FR" sz="3200" spc="-1" strike="noStrike">
                <a:solidFill>
                  <a:srgbClr val="000000"/>
                </a:solidFill>
                <a:latin typeface="Calibri"/>
              </a:rPr>
              <a:t> : </a:t>
            </a:r>
            <a:r>
              <a:rPr b="0" lang="fr-CH" sz="3200" spc="-1" strike="noStrike">
                <a:solidFill>
                  <a:srgbClr val="000000"/>
                </a:solidFill>
                <a:latin typeface="Calibri"/>
              </a:rPr>
              <a:t>Déterminer les modalités de collecte et de mise en commun des fonds et achat de services de santé par l’assurance maladie  </a:t>
            </a:r>
            <a:r>
              <a:rPr b="0" lang="fr-FR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Espace réservé du numéro de diapositive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4FDE-AA85-425F-8423-214E69E507AA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18600" y="259920"/>
            <a:ext cx="4684680" cy="1081080"/>
          </a:xfrm>
          <a:prstGeom prst="rect">
            <a:avLst/>
          </a:prstGeom>
          <a:noFill/>
          <a:ln w="76320">
            <a:solidFill>
              <a:srgbClr val="a6a6a6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Point 2 : </a:t>
            </a:r>
            <a:r>
              <a:rPr b="0" i="1" lang="fr-CH" sz="2400" spc="-1" strike="noStrike">
                <a:solidFill>
                  <a:srgbClr val="7f7f7f"/>
                </a:solidFill>
                <a:latin typeface="Calibri"/>
              </a:rPr>
              <a:t>Déterminer les modalités de </a:t>
            </a:r>
            <a:r>
              <a:rPr b="0" i="1" lang="fr-FR" sz="2400" spc="-1" strike="noStrike">
                <a:solidFill>
                  <a:srgbClr val="7f7f7f"/>
                </a:solidFill>
                <a:latin typeface="Calibri"/>
              </a:rPr>
              <a:t>mobilisation des financements domestiques pour la santé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Flèche vers le bas 4"/>
          <p:cNvSpPr/>
          <p:nvPr/>
        </p:nvSpPr>
        <p:spPr>
          <a:xfrm>
            <a:off x="1835280" y="1484280"/>
            <a:ext cx="504720" cy="720720"/>
          </a:xfrm>
          <a:prstGeom prst="downArrow">
            <a:avLst>
              <a:gd name="adj1" fmla="val 50000"/>
              <a:gd name="adj2" fmla="val 29498"/>
            </a:avLst>
          </a:prstGeom>
          <a:solidFill>
            <a:srgbClr val="d9d9d9"/>
          </a:solidFill>
          <a:ln w="9360">
            <a:solidFill>
              <a:srgbClr val="a6a6a6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2-06T11:50:22Z</dcterms:created>
  <dc:creator>Administrator</dc:creator>
  <dc:description/>
  <dc:language>en-US</dc:language>
  <cp:lastModifiedBy>TOSHIBA</cp:lastModifiedBy>
  <dcterms:modified xsi:type="dcterms:W3CDTF">2017-02-09T08:09:01Z</dcterms:modified>
  <cp:revision>74</cp:revision>
  <dc:subject/>
  <dc:title>Groupe 2 : Cadre institutionnel et modalités de mobilisation des financements domestiques pour la santé</dc:title>
</cp:coreProperties>
</file>